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3.png" ContentType="image/png"/>
  <Override PartName="/ppt/media/image6.png" ContentType="image/png"/>
  <Override PartName="/ppt/media/image14.wmf" ContentType="image/x-wmf"/>
  <Override PartName="/ppt/media/image7.jpeg" ContentType="image/jpeg"/>
  <Override PartName="/ppt/media/image12.wmf" ContentType="image/x-wmf"/>
  <Override PartName="/ppt/media/image29.jpeg" ContentType="image/jpeg"/>
  <Override PartName="/ppt/media/image10.jpeg" ContentType="image/jpeg"/>
  <Override PartName="/ppt/media/image8.jpeg" ContentType="image/jpeg"/>
  <Override PartName="/ppt/media/image13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23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136-10B7-4484-8480-3DE3037C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7585-897F-4470-830E-E97784A0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337-BADA-4456-B262-F79878E7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64E0-5158-4E35-A98E-7394EA89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6DBD-B511-49B9-88B4-21C6E88C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A91-8CC5-491F-BBFA-9DA34482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865-2591-4BF9-AB8D-18DB619F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9B4-C93C-4F63-BB59-1E077261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4A0-3DBB-402B-9D6A-B20CD307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F7A5-28D1-4E02-9FD7-B8B746E1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D001-C631-452C-BBB0-270703AD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9C2-F05E-41FD-BDD4-EAB84A72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8136-9354-47F3-988C-4DDAFB407087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09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8229600" y="76320"/>
            <a:ext cx="936720" cy="936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" name="Text Box 9"/>
          <p:cNvSpPr/>
          <p:nvPr/>
        </p:nvSpPr>
        <p:spPr>
          <a:xfrm>
            <a:off x="5834520" y="30492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World Vegetabl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7212960" y="237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R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1" descr="Logo"/>
          <p:cNvPicPr/>
          <p:nvPr/>
        </p:nvPicPr>
        <p:blipFill>
          <a:blip r:embed="rId4"/>
          <a:stretch/>
        </p:blipFill>
        <p:spPr>
          <a:xfrm>
            <a:off x="8402760" y="6019920"/>
            <a:ext cx="74124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650A-026F-4963-921E-D116A87A5958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ZoneTexte 5"/>
          <p:cNvSpPr/>
          <p:nvPr/>
        </p:nvSpPr>
        <p:spPr>
          <a:xfrm>
            <a:off x="539640" y="4437000"/>
            <a:ext cx="34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aipei"/>
              </a:rPr>
              <a:t>Annual 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aipei"/>
              </a:rPr>
              <a:t>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aipei"/>
              </a:rPr>
              <a:t>2014/2015 Achievements of AVR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ZoneTexte 6"/>
          <p:cNvSpPr/>
          <p:nvPr/>
        </p:nvSpPr>
        <p:spPr>
          <a:xfrm>
            <a:off x="900000" y="6021360"/>
            <a:ext cx="33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aipei"/>
              </a:rPr>
              <a:t>Sikasso,  26 February 2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ZoneTexte 12"/>
          <p:cNvSpPr/>
          <p:nvPr/>
        </p:nvSpPr>
        <p:spPr>
          <a:xfrm>
            <a:off x="0" y="2060640"/>
            <a:ext cx="47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ipei"/>
              </a:rPr>
              <a:t>Sustainable Intensification of Key Farming Systems in the Sudano-Sahelian Zone of West Af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3448080" cy="752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Users\USER\Dropbox\Juillet_Aout_2014\P1040237.JPG"/>
          <p:cNvPicPr/>
          <p:nvPr/>
        </p:nvPicPr>
        <p:blipFill>
          <a:blip r:embed="rId2"/>
          <a:srcRect l="0" t="16741" r="29354" b="0"/>
          <a:stretch/>
        </p:blipFill>
        <p:spPr>
          <a:xfrm>
            <a:off x="4838760" y="2133720"/>
            <a:ext cx="4311720" cy="381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3"/>
          <a:stretch/>
        </p:blipFill>
        <p:spPr>
          <a:xfrm>
            <a:off x="5076720" y="549360"/>
            <a:ext cx="2835360" cy="944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4716360" y="604836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BY: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Dr Caroline Sob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Dr Albert Rouam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43588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9280" y="1628280"/>
            <a:ext cx="885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owing and transplanting: June to July 2014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ata recording: June to December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hat has been collected?: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 Yield per plot and calculated per Kg/ha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 Gross market values of the tested vegetable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ereal and legume crops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ata were recorded and analyzed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2B9A-CC2A-49F0-A4B8-EBC7975D9584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435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8920" y="1773360"/>
            <a:ext cx="84250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646A-DE7C-4950-B50A-88C76B642DE4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8683560" cy="29732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250920" y="147312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State of trials in Bougouni and Koutiala, 2014/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640" y="549360"/>
            <a:ext cx="8435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5091-C50A-4616-A8BD-552A433717EB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6935760" cy="266544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3" descr=""/>
          <p:cNvPicPr/>
          <p:nvPr/>
        </p:nvPicPr>
        <p:blipFill>
          <a:blip r:embed="rId2"/>
          <a:stretch/>
        </p:blipFill>
        <p:spPr>
          <a:xfrm>
            <a:off x="3708360" y="4073400"/>
            <a:ext cx="4754520" cy="2664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539640" y="5805360"/>
            <a:ext cx="28800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Prices of products in FC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ight Arrow 5"/>
          <p:cNvSpPr/>
          <p:nvPr/>
        </p:nvSpPr>
        <p:spPr>
          <a:xfrm>
            <a:off x="3419640" y="5897520"/>
            <a:ext cx="288720" cy="184320"/>
          </a:xfrm>
          <a:prstGeom prst="rightArrow">
            <a:avLst>
              <a:gd name="adj1" fmla="val 50000"/>
              <a:gd name="adj2" fmla="val 50212"/>
            </a:avLst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250920" y="3984480"/>
            <a:ext cx="28810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Inter cropping G +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108000" y="765000"/>
            <a:ext cx="14396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Bougo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620640"/>
            <a:ext cx="29512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23F5-BCB6-4B02-BC9A-96CA8A87FF71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Object 5" descr=""/>
          <p:cNvPicPr/>
          <p:nvPr/>
        </p:nvPicPr>
        <p:blipFill>
          <a:blip r:embed="rId1"/>
          <a:stretch/>
        </p:blipFill>
        <p:spPr>
          <a:xfrm>
            <a:off x="3481560" y="623880"/>
            <a:ext cx="5657760" cy="2757600"/>
          </a:xfrm>
          <a:prstGeom prst="rect">
            <a:avLst/>
          </a:prstGeom>
          <a:ln w="0">
            <a:noFill/>
          </a:ln>
        </p:spPr>
      </p:pic>
      <p:pic>
        <p:nvPicPr>
          <p:cNvPr id="112" name="Object 7" descr=""/>
          <p:cNvPicPr/>
          <p:nvPr/>
        </p:nvPicPr>
        <p:blipFill>
          <a:blip r:embed="rId2"/>
          <a:stretch/>
        </p:blipFill>
        <p:spPr>
          <a:xfrm>
            <a:off x="2776680" y="3268800"/>
            <a:ext cx="5929200" cy="35575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179280" y="21337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Cumulative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i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ds (kg/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190440" y="4076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Cumulative Gro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market values (FCF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435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85E5-9E96-46A6-9677-2C06C1C979AD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Object 2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7759800" cy="29527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2843280" y="2205000"/>
            <a:ext cx="28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Inter c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oppin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 M +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250920" y="1628640"/>
            <a:ext cx="14414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Bougo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435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FAB6-6F6B-4C1C-8713-BF457D3AC189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Object 2" descr=""/>
          <p:cNvPicPr/>
          <p:nvPr/>
        </p:nvPicPr>
        <p:blipFill>
          <a:blip r:embed="rId1"/>
          <a:stretch/>
        </p:blipFill>
        <p:spPr>
          <a:xfrm>
            <a:off x="4143240" y="1461960"/>
            <a:ext cx="4145040" cy="261144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3" descr=""/>
          <p:cNvPicPr/>
          <p:nvPr/>
        </p:nvPicPr>
        <p:blipFill>
          <a:blip r:embed="rId2"/>
          <a:stretch/>
        </p:blipFill>
        <p:spPr>
          <a:xfrm>
            <a:off x="4143240" y="4295880"/>
            <a:ext cx="4129200" cy="23079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190440" y="4076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Cumulative Gro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market values (FCF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179280" y="21337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Cumulative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i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ds (kg/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435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367E-9670-4269-8E53-008F76A37A5A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250920" y="1628640"/>
            <a:ext cx="14414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Bougo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Object 2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7176960" cy="2593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2843280" y="2205000"/>
            <a:ext cx="28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Inter cropping M +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8000" y="620280"/>
            <a:ext cx="352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3D79-6AEE-42FB-98C8-45BD77331C87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Object 2" descr=""/>
          <p:cNvPicPr/>
          <p:nvPr/>
        </p:nvPicPr>
        <p:blipFill>
          <a:blip r:embed="rId1"/>
          <a:stretch/>
        </p:blipFill>
        <p:spPr>
          <a:xfrm>
            <a:off x="3925800" y="966960"/>
            <a:ext cx="4786560" cy="265104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4" descr=""/>
          <p:cNvPicPr/>
          <p:nvPr/>
        </p:nvPicPr>
        <p:blipFill>
          <a:blip r:embed="rId2"/>
          <a:stretch/>
        </p:blipFill>
        <p:spPr>
          <a:xfrm>
            <a:off x="3927600" y="3816360"/>
            <a:ext cx="4817880" cy="24130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179280" y="21337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Cumulative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i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ds (kg/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90440" y="4076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Cumulative Gro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market values (FCF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435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C6DA-F088-4148-AB79-D541E109C809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250920" y="1628640"/>
            <a:ext cx="14414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Bougo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Object 2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7624800" cy="25192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2843280" y="2205000"/>
            <a:ext cx="28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Inter cropping M +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8000" y="620280"/>
            <a:ext cx="302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F572-9953-4F82-BC96-2640024AE0F5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Object 2" descr=""/>
          <p:cNvPicPr/>
          <p:nvPr/>
        </p:nvPicPr>
        <p:blipFill>
          <a:blip r:embed="rId1"/>
          <a:stretch/>
        </p:blipFill>
        <p:spPr>
          <a:xfrm>
            <a:off x="4214880" y="3610080"/>
            <a:ext cx="4647960" cy="2330280"/>
          </a:xfrm>
          <a:prstGeom prst="rect">
            <a:avLst/>
          </a:prstGeom>
          <a:ln w="0">
            <a:noFill/>
          </a:ln>
        </p:spPr>
      </p:pic>
      <p:pic>
        <p:nvPicPr>
          <p:cNvPr id="145" name="Object 5" descr=""/>
          <p:cNvPicPr/>
          <p:nvPr/>
        </p:nvPicPr>
        <p:blipFill>
          <a:blip r:embed="rId2"/>
          <a:stretch/>
        </p:blipFill>
        <p:spPr>
          <a:xfrm>
            <a:off x="4213080" y="1060560"/>
            <a:ext cx="4604040" cy="2374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179280" y="21337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Cumulative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i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ds (kg/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190440" y="4076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Cumulative Gro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market values (FCF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15A3-44A2-4E0F-B919-8EB274D24945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2160720" y="701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ipei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-33480" y="19890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ipei"/>
              </a:rPr>
              <a:t>Short presentation of AVRDC intervention in 2014/3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ipei"/>
              </a:rPr>
              <a:t>2. Methodology for trials implementation in 2014/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ipei"/>
              </a:rPr>
              <a:t>3. Achiev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ipei"/>
              </a:rPr>
              <a:t>Improving farm and field productivity and profitabilit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ipe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ipei"/>
              </a:rPr>
              <a:t>Review and document nutrition activities in M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640" y="620640"/>
            <a:ext cx="84358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: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724F-5A40-4F2A-869E-2B08AAA04BAB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0" y="590400"/>
            <a:ext cx="144000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Kouti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Object 7" descr=""/>
          <p:cNvPicPr/>
          <p:nvPr/>
        </p:nvPicPr>
        <p:blipFill>
          <a:blip r:embed="rId1"/>
          <a:stretch/>
        </p:blipFill>
        <p:spPr>
          <a:xfrm>
            <a:off x="1773360" y="1200240"/>
            <a:ext cx="7343640" cy="262080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8" descr=""/>
          <p:cNvPicPr/>
          <p:nvPr/>
        </p:nvPicPr>
        <p:blipFill>
          <a:blip r:embed="rId2"/>
          <a:stretch/>
        </p:blipFill>
        <p:spPr>
          <a:xfrm>
            <a:off x="1627200" y="3960720"/>
            <a:ext cx="7397640" cy="2656080"/>
          </a:xfrm>
          <a:prstGeom prst="rect">
            <a:avLst/>
          </a:prstGeom>
          <a:ln w="0">
            <a:noFill/>
          </a:ln>
        </p:spPr>
      </p:pic>
      <p:sp>
        <p:nvSpPr>
          <p:cNvPr id="153" name="Oval 11"/>
          <p:cNvSpPr/>
          <p:nvPr/>
        </p:nvSpPr>
        <p:spPr>
          <a:xfrm>
            <a:off x="0" y="1628640"/>
            <a:ext cx="1332000" cy="1152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Ok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13"/>
          <p:cNvSpPr/>
          <p:nvPr/>
        </p:nvSpPr>
        <p:spPr>
          <a:xfrm>
            <a:off x="-108000" y="4365720"/>
            <a:ext cx="1655640" cy="122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Tom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435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5544-38FF-49CD-8702-9B88227C4332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0" y="620640"/>
            <a:ext cx="144000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Kouti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Object 9" descr=""/>
          <p:cNvPicPr/>
          <p:nvPr/>
        </p:nvPicPr>
        <p:blipFill>
          <a:blip r:embed="rId1"/>
          <a:stretch/>
        </p:blipFill>
        <p:spPr>
          <a:xfrm>
            <a:off x="1700280" y="1490760"/>
            <a:ext cx="7597800" cy="3308400"/>
          </a:xfrm>
          <a:prstGeom prst="rect">
            <a:avLst/>
          </a:prstGeom>
          <a:ln w="0">
            <a:noFill/>
          </a:ln>
        </p:spPr>
      </p:pic>
      <p:sp>
        <p:nvSpPr>
          <p:cNvPr id="159" name="Oval 10"/>
          <p:cNvSpPr/>
          <p:nvPr/>
        </p:nvSpPr>
        <p:spPr>
          <a:xfrm>
            <a:off x="0" y="2060640"/>
            <a:ext cx="1619280" cy="122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Ros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435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 for the tri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FF5C-9F2D-44D6-A3C7-6CA4CA75A5C1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08000" y="1413000"/>
            <a:ext cx="8785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The pure culture is the best in terms of gross market values for vegetab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For intercropping, we need a second year of trials to confirm the trend: Intercropping 25% of cereal/legumes associated with 75% of  Vegetables seems to give the best gross market valu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For mono cropping, the AVRDC developed varieties are the most productives comparatively to all the check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The superiority of practices (A or P) is not obvious and further trials will allow to know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640" y="620640"/>
            <a:ext cx="84358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: Nutrit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15C7-3853-45DE-B45E-932935CB216B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95280" y="1341360"/>
            <a:ext cx="5040360" cy="51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d0d0d"/>
                </a:solidFill>
                <a:latin typeface="Times New Roman"/>
              </a:rPr>
              <a:t>Sub-activity 6.1: </a:t>
            </a:r>
            <a:r>
              <a:rPr b="1" i="1" lang="en-US" sz="2400" spc="-1" strike="noStrike">
                <a:solidFill>
                  <a:srgbClr val="0d0d0d"/>
                </a:solidFill>
                <a:latin typeface="Times New Roman"/>
              </a:rPr>
              <a:t>Review and confirm nutrition training modules with input from nutritio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Training Modules revised and compiled as a training manual for extension workers (the draft document is under revie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pics co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Food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Malnutr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Optimal feeding practices for children and pregnant and lactating wo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Harvest and post-harvest conservation and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Food Hygi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How to improve food and nutrition security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D:\Pictures\octobre 1\IMG_0027.JPG"/>
          <p:cNvPicPr/>
          <p:nvPr/>
        </p:nvPicPr>
        <p:blipFill>
          <a:blip r:embed="rId1"/>
          <a:stretch/>
        </p:blipFill>
        <p:spPr>
          <a:xfrm>
            <a:off x="5276880" y="2276640"/>
            <a:ext cx="3935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435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: Nutrit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2B9B-A4F8-4F7D-A6DE-765880CD3C49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250920" y="13413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Sub activity 6.3: Joint Ghana-Mali nutrition plann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to develop 2015 work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108000" y="2565360"/>
            <a:ext cx="475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resul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Meeting organized in Ouagadougou-Burkina Faso (14-16 January 20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Work plan for the coming year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7" descr="D:\Pictures\2015-02-18 koutiala 20151\koutiala 20151 048.JPG"/>
          <p:cNvPicPr/>
          <p:nvPr/>
        </p:nvPicPr>
        <p:blipFill>
          <a:blip r:embed="rId1"/>
          <a:stretch/>
        </p:blipFill>
        <p:spPr>
          <a:xfrm>
            <a:off x="5003640" y="2565360"/>
            <a:ext cx="41403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43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17A5-5E23-42FD-99E0-AE7ADD80B84F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1835280" y="1514520"/>
            <a:ext cx="5473440" cy="35305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"/>
          <p:cNvSpPr/>
          <p:nvPr/>
        </p:nvSpPr>
        <p:spPr>
          <a:xfrm>
            <a:off x="1476360" y="522936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Taipei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ject Component for AVRDC, 2014/20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640" y="2636640"/>
            <a:ext cx="5553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8E07-B3AA-4976-BD1D-EA1C2810CB1B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79280" y="1700280"/>
            <a:ext cx="864072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AVRDC intervenes in 2 Work package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WP5 and WP10 in M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WP 4 in Gh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WP5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Activity 2: Determine farmer practices for cereal/legumes – Vegetable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based systems, test integrated innovations and assess productivity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profi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Sub activity 2.1: Assess productivity and profitability of integrate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innovations for cereal/legume – Vegetables cropping systems an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identify opportunities for 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Sub activity 2.2: Test and disseminate promising technologies t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intensify vegetable mono cropping in rainy and off-sea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ject Component for AVRDC (Cont’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2636640"/>
            <a:ext cx="5553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5278-CFB7-4932-B8C3-EAA7B500F4C5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79280" y="1700280"/>
            <a:ext cx="864072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WP10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Activity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: Review and document nutrition activities in 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Sub activity 6.1:  Review and confirm nutrr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modules with input from nutritio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Sub activity 6.3: Joint Ghana-Mali nutrition plann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to develop 2015 work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WP 4: Activity 1 to 4: In Gh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3"/>
          <p:cNvSpPr/>
          <p:nvPr/>
        </p:nvSpPr>
        <p:spPr>
          <a:xfrm>
            <a:off x="642960" y="928800"/>
            <a:ext cx="6715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  <a:ea typeface="Taipei"/>
              </a:rPr>
              <a:t>Implementation of the trials in 2014/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300480" y="-24120"/>
            <a:ext cx="2543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aipei"/>
              </a:rPr>
              <a:t>Period: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aipei"/>
              </a:rPr>
              <a:t> 1 August 2011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aipei"/>
              </a:rPr>
              <a:t>‐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aipei"/>
              </a:rPr>
              <a:t> 31 July 2014 in  2 phas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aipei"/>
              </a:rPr>
              <a:t>Phase 1: 1 August 2011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aipei"/>
              </a:rPr>
              <a:t>–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aipei"/>
              </a:rPr>
              <a:t> 31 July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aipei"/>
              </a:rPr>
              <a:t>Phase 2: 1 August 2013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aipei"/>
              </a:rPr>
              <a:t>–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aipei"/>
              </a:rPr>
              <a:t> 31 July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8" descr="C:\Rouamba\Partenariat\Mali\USAID\USAID 2013\Report staff\Ba Germain\Training Nov 2013\Photo Mission du 14 au 19 Nov 2013\P1050684.JPG"/>
          <p:cNvPicPr/>
          <p:nvPr/>
        </p:nvPicPr>
        <p:blipFill>
          <a:blip r:embed="rId1"/>
          <a:stretch/>
        </p:blipFill>
        <p:spPr>
          <a:xfrm>
            <a:off x="1332000" y="2781360"/>
            <a:ext cx="3884400" cy="2592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5796000" y="3357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Bougouni &amp; Sika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2"/>
          <p:cNvSpPr/>
          <p:nvPr/>
        </p:nvSpPr>
        <p:spPr>
          <a:xfrm>
            <a:off x="2016000" y="1341360"/>
            <a:ext cx="2556000" cy="124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In each action village: planning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wn Arrow 3"/>
          <p:cNvSpPr/>
          <p:nvPr/>
        </p:nvSpPr>
        <p:spPr>
          <a:xfrm>
            <a:off x="1476360" y="5351400"/>
            <a:ext cx="71280" cy="669960"/>
          </a:xfrm>
          <a:prstGeom prst="downArrow">
            <a:avLst>
              <a:gd name="adj1" fmla="val 50000"/>
              <a:gd name="adj2" fmla="val 50520"/>
            </a:avLst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wn Arrow 11"/>
          <p:cNvSpPr/>
          <p:nvPr/>
        </p:nvSpPr>
        <p:spPr>
          <a:xfrm>
            <a:off x="3963960" y="5403960"/>
            <a:ext cx="73080" cy="669960"/>
          </a:xfrm>
          <a:prstGeom prst="downArrow">
            <a:avLst>
              <a:gd name="adj1" fmla="val 50000"/>
              <a:gd name="adj2" fmla="val 49275"/>
            </a:avLst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Down Arrow 12"/>
          <p:cNvSpPr/>
          <p:nvPr/>
        </p:nvSpPr>
        <p:spPr>
          <a:xfrm>
            <a:off x="2484360" y="5351400"/>
            <a:ext cx="71640" cy="669960"/>
          </a:xfrm>
          <a:prstGeom prst="downArrow">
            <a:avLst>
              <a:gd name="adj1" fmla="val 50000"/>
              <a:gd name="adj2" fmla="val 50266"/>
            </a:avLst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Down Arrow 13"/>
          <p:cNvSpPr/>
          <p:nvPr/>
        </p:nvSpPr>
        <p:spPr>
          <a:xfrm>
            <a:off x="5129280" y="5391000"/>
            <a:ext cx="73080" cy="669960"/>
          </a:xfrm>
          <a:prstGeom prst="downArrow">
            <a:avLst>
              <a:gd name="adj1" fmla="val 50000"/>
              <a:gd name="adj2" fmla="val 49275"/>
            </a:avLst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Down Arrow 4"/>
          <p:cNvSpPr/>
          <p:nvPr/>
        </p:nvSpPr>
        <p:spPr>
          <a:xfrm>
            <a:off x="3106800" y="2587680"/>
            <a:ext cx="36036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24000" y="6021360"/>
            <a:ext cx="56880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Okra (O)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Tomato (T)   Pepper (P)   Roselle (R)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6732720" y="5351400"/>
            <a:ext cx="24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aipei"/>
              </a:rPr>
              <a:t>Each vegetable is associated either Maize or Groudn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E603-AA88-4821-BF35-9DB56C454F29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395280" y="1052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aipei"/>
              </a:rPr>
              <a:t>INTERCROPPING TRIALS: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395280" y="177336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Groudnut + Roselle: Fleur 11 + Samandah &amp; L2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100% 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100%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50% (G) + 50%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75% (G) + 25%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25% (G) + 75%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C:\Users\Rouamba.AVRDCMALI\Desktop\Other_photos_forAlbert\2014-10-10 14.42.32.jpg"/>
          <p:cNvPicPr/>
          <p:nvPr/>
        </p:nvPicPr>
        <p:blipFill>
          <a:blip r:embed="rId1"/>
          <a:stretch/>
        </p:blipFill>
        <p:spPr>
          <a:xfrm>
            <a:off x="3200400" y="2421000"/>
            <a:ext cx="59151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F2FC-5E91-42D4-B8EC-91D6BAE71B7B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390600" y="692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aipei"/>
              </a:rPr>
              <a:t>INTER CROPPING T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95280" y="131436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Maize + tomato: Sotubaka + IXCRIXINA &amp; AVTO1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100% Maize 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100%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50% (M) + 50% 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75% (M) + 25% 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25% (M) + 75% 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Maize + pepp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100% Maize 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100% 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50% (M) + 50%  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75% (M) + 25%  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25% (M) + 75%  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: Sotubaka + Nisondia &amp; Bafi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C:\Users\Rouamba.AVRDCMALI\Desktop\Other_photos_forAlbert\2014-10-10 09.24.11.jpg"/>
          <p:cNvPicPr/>
          <p:nvPr/>
        </p:nvPicPr>
        <p:blipFill>
          <a:blip r:embed="rId1"/>
          <a:stretch/>
        </p:blipFill>
        <p:spPr>
          <a:xfrm>
            <a:off x="3246480" y="1773360"/>
            <a:ext cx="5789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9CA8-C7CA-48EC-BEBA-7DC85007C140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395280" y="1052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aipei"/>
              </a:rPr>
              <a:t>INTER CROPPING T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95280" y="1773360"/>
            <a:ext cx="756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Maize + Okra: Sotubaka + Batoumabè &amp; Kon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100% Maize 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100% (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50% (M) + 50%  (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75% (M) + 25%  (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25% (M) + 75%  (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C:\Users\Rouamba.AVRDCMALI\Desktop\keriba2.jpg"/>
          <p:cNvPicPr/>
          <p:nvPr/>
        </p:nvPicPr>
        <p:blipFill>
          <a:blip r:embed="rId1"/>
          <a:stretch/>
        </p:blipFill>
        <p:spPr>
          <a:xfrm>
            <a:off x="3322800" y="2708280"/>
            <a:ext cx="56880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F5BA-FD7E-4BB5-B26E-675BC89FF220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50920" y="5284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aipei"/>
              </a:rPr>
              <a:t>MONO CROPPING TRIALS: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39640" y="134136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Tomato: ICRIXINA + AVTO1122 +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Pepper: Nisomdia + Bafarima +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Okra: Batoumbè + Konni +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Roselle: Samandah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+ L28 +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Each farmer= replication and has 3 plots and 2 sub plots per plot including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farmer practice (P)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recommended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 practice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4" descr=""/>
          <p:cNvPicPr/>
          <p:nvPr/>
        </p:nvPicPr>
        <p:blipFill>
          <a:blip r:embed="rId1"/>
          <a:stretch/>
        </p:blipFill>
        <p:spPr>
          <a:xfrm>
            <a:off x="1258920" y="5084640"/>
            <a:ext cx="6129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01:11:15Z</dcterms:created>
  <dc:creator>lin</dc:creator>
  <dc:description/>
  <dc:language>en-US</dc:language>
  <cp:lastModifiedBy>Albert Rouamba</cp:lastModifiedBy>
  <dcterms:modified xsi:type="dcterms:W3CDTF">2015-02-26T08:27:26Z</dcterms:modified>
  <cp:revision>462</cp:revision>
  <dc:subject/>
  <dc:title>PowerPoint 簡報</dc:title>
</cp:coreProperties>
</file>